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FFF2-B1D3-4D2C-98D5-F14FE088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9A5A-EE77-4F23-B418-219C1E6B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D4D1-48CE-46AC-9082-8C33ECF5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5D73-E68C-4E16-8C59-4A1CED16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6F46-199D-4442-A4FF-D71E3FF9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CE78-98B2-4E25-8577-240C287D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900C-F9FD-4C85-A95C-5EAA2432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A864-8192-47CF-864D-90143584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53B7-A510-4B43-B278-F185B9F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C7D3-B043-4826-9834-F02D46C4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54C0-11A7-47D0-81B1-299C8C5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BD23-E483-48C4-9250-D00AB37D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685E-FA2C-4569-9209-3F7B8DB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283-7026-4A7C-B004-99F23D3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C074-0BE7-422B-B963-9EE69D97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5850-B18E-4348-BED8-77C0F0D1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FB5E-D884-45A8-9157-BD1C2A26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C622-B0FA-4D45-85FD-73F2B0BC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F661-D0F5-48D2-BB05-B0825BC8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BE33-CECA-4C04-B74D-C870308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EDB4-4B5B-48E9-B6E2-3BD14E6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BBB0-B9DB-4B4E-AC8A-CCED92C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9F8A-F549-412C-A2E3-B82C080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DF95-7391-4771-9202-1F50B73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F20-D21F-4DB1-85BD-842176133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189D-9179-4823-AA8F-A23C71054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187600">
            <a:off x="457200" y="456840"/>
            <a:ext cx="2189160" cy="227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447000">
            <a:off x="7010280" y="4114800"/>
            <a:ext cx="1835280" cy="2495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1981440" cy="1922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43000" y="2819520"/>
            <a:ext cx="6324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YDROGE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0643600">
            <a:off x="304560" y="464832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920" y="2743200"/>
            <a:ext cx="350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lso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sed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n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cific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fue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263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 burns clean! It’s non-pollutan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 hydrogen atoms and 1 oxygen atom form water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t is the most abundant element in the worl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element is 14 times lighter than the air we breath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weights were based on hydrogen at one point of tim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is the oldest element in the univer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ntil 1783, hydrogen was used to fill ballo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 takes up 75 percent of the Earth’s mas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 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Massy, Quentin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PARACELSUS PIC.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d. Paracelsus, Wikipedia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http://www.en.wikipedia.org/wiki/Paracelsu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 PIC.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www.academic.brooklyn.cuny.edu/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19 Nov. 2009. Web. 19 Nov. 2009. &lt;www.academic.brooklyn.cuny.edu/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ChaCha - Mobile Search | Text Search | Questions and Answer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9 Nov. 2009. Web. 19 Nov. 2009. &lt;http://www.chacha.com/question/how-many-isotopes-does-hydrogen-have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Yahoo! Answers - Home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n.d. Web. 18 Nov. 2009. &lt;http://www.answers.yahoo.com/question/index?qid=20071226121057AAwmDgq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wiki.answers.com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wiki.answers.com/Q/What_is_the_atomic_number_and_atomic_mass_of_hydrogen&gt;.</a:t>
            </a:r>
            <a:r>
              <a:rPr b="1" lang="en-US" sz="14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Naveed, Muriam. "URL Science PIC.."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Google Images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images.google.com/imgres?imgurl=http://themoderngreen.com/wp-content/uploads/2008/10/hydrogen-atom.jpg&amp;imgrefurl=http://themoderngreen.com/2008/10/hydrogen-manufacturing-is-now-20-30-times-cheaper/&amp;usg=__buHxsYiAu4fljvyRpYxK7KRW7fQ=&amp;h=400&amp;w=400&gt;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"Periodic Table of the Elements."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rairie Hills Middle School Student Handbook 2009-201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17 Aug. 2009: 109. Print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Unknown, Unknown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Henry Cavendish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d. Henry Cavendish, Wikipedia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www.wikipedia.org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World Travel Guide with Pictures, Maps and Tours. N.p., 20 Nov. 2009. Web. 20 Nov. 2009. &lt;http://www.bugbog.com/images/maps&gt;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www.eng.uwaterloo.ca/~ljlin/frames/hydrogen_station.jpg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www.eng.uwaterloo.ca/~ljlin/frames/hydrogen_station.jpg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ww.i.ehow.com/image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i.ehow.com/images&gt;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Yahoo! Answers - Home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answers.yahoo.com/question/index?qid=20080103013018AAGKvZi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2bcbf1"/>
                </a:solidFill>
                <a:latin typeface="Comic Sans MS"/>
              </a:rPr>
              <a:t>eHow | How To Do Just About Everything! | How To Videos &amp; Articles</a:t>
            </a: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ehow.com/about_5435371_interesting-hydrogen.html&gt;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www.themotorreport.c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themotorreport.com&gt;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Element Symbol: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omic Number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Mass: 1.0079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eriod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ons: 1 positively char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otopes: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Group: non-metal/Group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54864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ocated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n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op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ef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periodic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able.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he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firs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element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!</a:t>
            </a:r>
            <a:r>
              <a:rPr b="0" lang="en-US" sz="44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discover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wa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nry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vendish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discover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1766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London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nglan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317052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71960" y="3200400"/>
            <a:ext cx="3646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tructur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om.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No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hav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neutr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4956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HYSICA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48765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Col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d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ighly flamm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ght in we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514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44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i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 colorles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tsel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n’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v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own.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ictur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at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e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HeartWaterDrop7E0.jpg water drop love image by christiepositiveenergy"/>
          <p:cNvPicPr/>
          <p:nvPr/>
        </p:nvPicPr>
        <p:blipFill>
          <a:blip r:embed="rId1"/>
          <a:stretch/>
        </p:blipFill>
        <p:spPr>
          <a:xfrm>
            <a:off x="4343400" y="2133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3200" y="487692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r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wered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,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orpio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4533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3962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Peroxide,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tisep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77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2:29:18Z</dcterms:created>
  <dc:creator>Naveed</dc:creator>
  <dc:description/>
  <dc:language>en-US</dc:language>
  <cp:lastModifiedBy>Naveed</cp:lastModifiedBy>
  <dcterms:modified xsi:type="dcterms:W3CDTF">2009-12-04T04:53:28Z</dcterms:modified>
  <cp:revision>8</cp:revision>
  <dc:subject/>
  <dc:title>HYDROGEN</dc:title>
</cp:coreProperties>
</file>