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7339F-E880-4644-84B7-0FE07BFD0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2AA97-492D-4BFE-9D7E-019415A2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DC38D-D092-4AA7-B05F-E35F568B8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4FD33-C934-4C7E-8422-F58C118E1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A5FD-A23D-4742-87A6-0C361099B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4C2A-4AA6-467B-9B3E-324937DD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DCC5-0C6E-434E-80ED-AD08E6BE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518B-ABAD-4A6C-8C01-4F22DD8A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15F5-B1C4-49F5-92B1-D215A5B0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03C6-C3B6-494C-BF55-AFF6AA17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6F0E-4EE2-46CF-B556-CA01E49A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80A26-1A54-4371-ADDA-8AE502D1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C6F4-E171-4192-B94C-2DC5281A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3EA4-B4B7-4644-9517-B1934020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3D64-C72D-4F99-B13C-0211B093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1FCC-6F2D-4AC4-918F-0DED9BA52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8520-7CA6-4D52-8D6D-4D83C0735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650A5-366D-4BD0-A07C-4AE0960D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29B25-3837-4352-9846-098BA5FD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12862-343F-4E07-818F-6F60B64E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F4E89-0C70-4DA7-AC61-E15347CB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0D7F4-6B91-41F3-9CE0-2E43D58F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18FC3-03A6-4C1A-8F27-C04DEB20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DF166-A4A0-4411-BDF5-872E754B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BCAF-B310-4F9F-95A4-11C94ABC8E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BFFF-D988-4744-9D75-BB048B04D6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 rot="20187600">
            <a:off x="457200" y="456840"/>
            <a:ext cx="2189160" cy="2273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 rot="447000">
            <a:off x="7010280" y="4114800"/>
            <a:ext cx="1835280" cy="2495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553080" y="380880"/>
            <a:ext cx="1981440" cy="1922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1143000" y="2819520"/>
            <a:ext cx="63244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HYDROGEN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 rot="20643600">
            <a:off x="304560" y="4648320"/>
            <a:ext cx="25146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U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876920" y="2743200"/>
            <a:ext cx="35049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Hydroge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also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used </a:t>
            </a: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in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pecific </a:t>
            </a: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fue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3263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G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F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A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Hydrogen burns clean! It’s non-pollutant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 hydrogen atoms and 1 oxygen atom form water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It is the most abundant element in the world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is element is 14 times lighter than the air we breathe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G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F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A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Atomic weights were based on hydrogen at one point of time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t is the oldest element in the universe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Until 1783, hydrogen was used to fill balloons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Hydrogen takes up 75 percent of the Earth’s mass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7620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cbf1"/>
                </a:solidFill>
                <a:latin typeface="Comic Sans MS"/>
              </a:rPr>
              <a:t>M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y </a:t>
            </a:r>
            <a:r>
              <a:rPr b="0" lang="en-US" sz="4000" spc="-1" strike="noStrike">
                <a:solidFill>
                  <a:srgbClr val="2bcbf1"/>
                </a:solidFill>
                <a:latin typeface="Comic Sans MS"/>
              </a:rPr>
              <a:t>B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2bcbf1"/>
                </a:solidFill>
                <a:latin typeface="Comic Sans MS"/>
              </a:rPr>
              <a:t>b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2bcbf1"/>
                </a:solidFill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4000" spc="-1" strike="noStrike">
                <a:solidFill>
                  <a:srgbClr val="2bcbf1"/>
                </a:solidFill>
                <a:latin typeface="Comic Sans MS"/>
              </a:rPr>
              <a:t>g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4000" spc="-1" strike="noStrike">
                <a:solidFill>
                  <a:srgbClr val="2bcbf1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en-US" sz="4000" spc="-1" strike="noStrike">
                <a:solidFill>
                  <a:srgbClr val="2bcbf1"/>
                </a:solidFill>
                <a:latin typeface="Comic Sans MS"/>
              </a:rPr>
              <a:t>h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2bcbf1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cbf1"/>
                </a:solidFill>
                <a:latin typeface="Comic Sans MS"/>
              </a:rPr>
              <a:t>Massy, Quentin. </a:t>
            </a:r>
            <a:r>
              <a:rPr b="1" i="1" lang="en-US" sz="1600" spc="-1" strike="noStrike">
                <a:solidFill>
                  <a:srgbClr val="2bcbf1"/>
                </a:solidFill>
                <a:latin typeface="Comic Sans MS"/>
              </a:rPr>
              <a:t>PARACELSUS PIC.</a:t>
            </a:r>
            <a:r>
              <a:rPr b="1" lang="en-US" sz="1600" spc="-1" strike="noStrike">
                <a:solidFill>
                  <a:srgbClr val="2bcbf1"/>
                </a:solidFill>
                <a:latin typeface="Comic Sans MS"/>
              </a:rPr>
              <a:t>. N.d. Paracelsus, Wikipedia. </a:t>
            </a:r>
            <a:r>
              <a:rPr b="1" i="1" lang="en-US" sz="1600" spc="-1" strike="noStrike">
                <a:solidFill>
                  <a:srgbClr val="2bcbf1"/>
                </a:solidFill>
                <a:latin typeface="Comic Sans MS"/>
              </a:rPr>
              <a:t>http://www.en.wikipedia.org/wiki/Paracelsus</a:t>
            </a:r>
            <a:r>
              <a:rPr b="1" lang="en-US" sz="1600" spc="-1" strike="noStrike">
                <a:solidFill>
                  <a:srgbClr val="2bcbf1"/>
                </a:solidFill>
                <a:latin typeface="Comic Sans MS"/>
              </a:rPr>
              <a:t>. Web. 19 Nov. 2009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Naveed, Muriam . "URL science PIC.." </a:t>
            </a:r>
            <a:r>
              <a:rPr b="1" i="1" lang="en-US" sz="1600" spc="-1" strike="noStrike">
                <a:solidFill>
                  <a:srgbClr val="ffffff"/>
                </a:solidFill>
                <a:latin typeface="Comic Sans MS"/>
              </a:rPr>
              <a:t>www.academic.brooklyn.cuny.edu/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. N.p., 19 Nov. 2009. Web. 19 Nov. 2009. &lt;www.academic.brooklyn.cuny.edu/&gt;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cbf1"/>
                </a:solidFill>
                <a:latin typeface="Comic Sans MS"/>
              </a:rPr>
              <a:t>Naveed, Muriam . "URL Science." </a:t>
            </a:r>
            <a:r>
              <a:rPr b="1" i="1" lang="en-US" sz="1600" spc="-1" strike="noStrike">
                <a:solidFill>
                  <a:srgbClr val="2bcbf1"/>
                </a:solidFill>
                <a:latin typeface="Comic Sans MS"/>
              </a:rPr>
              <a:t>ChaCha - Mobile Search | Text Search | Questions and Answers</a:t>
            </a:r>
            <a:r>
              <a:rPr b="1" lang="en-US" sz="1600" spc="-1" strike="noStrike">
                <a:solidFill>
                  <a:srgbClr val="2bcbf1"/>
                </a:solidFill>
                <a:latin typeface="Comic Sans MS"/>
              </a:rPr>
              <a:t>. N.p., 19 Nov. 2009. Web. 19 Nov. 2009. &lt;http://www.chacha.com/question/how-many-isotopes-does-hydrogen-have&gt;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2bcbf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Naveed, Muriam . "URL Science." </a:t>
            </a:r>
            <a:r>
              <a:rPr b="1" i="1" lang="en-US" sz="1600" spc="-1" strike="noStrike">
                <a:solidFill>
                  <a:srgbClr val="ffffff"/>
                </a:solidFill>
                <a:latin typeface="Comic Sans MS"/>
              </a:rPr>
              <a:t>Yahoo! Answers - Home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. N.p., n.d. Web. 18 Nov. 2009. &lt;http://www.answers.yahoo.com/question/index?qid=20071226121057AAwmDgq&gt;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cbf1"/>
                </a:solidFill>
                <a:latin typeface="Comic Sans MS"/>
              </a:rPr>
              <a:t>Naveed, Muriam . "URL Science." </a:t>
            </a:r>
            <a:r>
              <a:rPr b="1" i="1" lang="en-US" sz="1600" spc="-1" strike="noStrike">
                <a:solidFill>
                  <a:srgbClr val="2bcbf1"/>
                </a:solidFill>
                <a:latin typeface="Comic Sans MS"/>
              </a:rPr>
              <a:t>wiki.answers.com</a:t>
            </a:r>
            <a:r>
              <a:rPr b="1" lang="en-US" sz="1600" spc="-1" strike="noStrike">
                <a:solidFill>
                  <a:srgbClr val="2bcbf1"/>
                </a:solidFill>
                <a:latin typeface="Comic Sans MS"/>
              </a:rPr>
              <a:t>. N.p., 18 Nov. 2009. Web. 18 Nov. 2009. &lt;http://www.wiki.answers.com/Q/What_is_the_atomic_number_and_atomic_mass_of_hydrogen&gt;.</a:t>
            </a:r>
            <a:r>
              <a:rPr b="1" lang="en-US" sz="1400" spc="-1" strike="noStrike">
                <a:solidFill>
                  <a:srgbClr val="2bcbf1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M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y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 B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b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g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a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cbf1"/>
                </a:solidFill>
                <a:latin typeface="Comic Sans MS"/>
              </a:rPr>
              <a:t>Naveed, Muriam. "URL Science PIC.." </a:t>
            </a:r>
            <a:r>
              <a:rPr b="1" i="1" lang="en-US" sz="1800" spc="-1" strike="noStrike">
                <a:solidFill>
                  <a:srgbClr val="2bcbf1"/>
                </a:solidFill>
                <a:latin typeface="Comic Sans MS"/>
              </a:rPr>
              <a:t>Google Images</a:t>
            </a:r>
            <a:r>
              <a:rPr b="1" lang="en-US" sz="1800" spc="-1" strike="noStrike">
                <a:solidFill>
                  <a:srgbClr val="2bcbf1"/>
                </a:solidFill>
                <a:latin typeface="Comic Sans MS"/>
              </a:rPr>
              <a:t>. N.p., 18 Nov. 2009. Web. 18 Nov. 2009. &lt;http://www.images.google.com/imgres?imgurl=http://themoderngreen.com/wp-content/uploads/2008/10/hydrogen-atom.jpg&amp;imgrefurl=http://themoderngreen.com/2008/10/hydrogen-manufacturing-is-now-20-30-times-cheaper/&amp;usg=__buHxsYiAu4fljvyRpYxK7KRW7fQ=&amp;h=400&amp;w=400&gt;.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"Periodic Table of the Elements." </a:t>
            </a: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Prairie Hills Middle School Student Handbook 2009-2010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17 Aug. 2009: 109. Print.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cbf1"/>
                </a:solidFill>
                <a:latin typeface="Comic Sans MS"/>
              </a:rPr>
              <a:t>Unknown, Unknown. </a:t>
            </a:r>
            <a:r>
              <a:rPr b="1" i="1" lang="en-US" sz="1800" spc="-1" strike="noStrike">
                <a:solidFill>
                  <a:srgbClr val="2bcbf1"/>
                </a:solidFill>
                <a:latin typeface="Comic Sans MS"/>
              </a:rPr>
              <a:t>Henry Cavendish</a:t>
            </a:r>
            <a:r>
              <a:rPr b="1" lang="en-US" sz="1800" spc="-1" strike="noStrike">
                <a:solidFill>
                  <a:srgbClr val="2bcbf1"/>
                </a:solidFill>
                <a:latin typeface="Comic Sans MS"/>
              </a:rPr>
              <a:t>. N.d. Henry Cavendish, Wikipedia. </a:t>
            </a:r>
            <a:r>
              <a:rPr b="1" i="1" lang="en-US" sz="1800" spc="-1" strike="noStrike">
                <a:solidFill>
                  <a:srgbClr val="2bcbf1"/>
                </a:solidFill>
                <a:latin typeface="Comic Sans MS"/>
              </a:rPr>
              <a:t>www.wikipedia.org</a:t>
            </a:r>
            <a:r>
              <a:rPr b="1" lang="en-US" sz="1800" spc="-1" strike="noStrike">
                <a:solidFill>
                  <a:srgbClr val="2bcbf1"/>
                </a:solidFill>
                <a:latin typeface="Comic Sans MS"/>
              </a:rPr>
              <a:t>. Web. 19 Nov. 2009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Naveed, Muriam . "URL Science." World Travel Guide with Pictures, Maps and Tours. N.p., 20 Nov. 2009. Web. 20 Nov. 2009. &lt;http://www.bugbog.com/images/maps&gt;.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M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y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 B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b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g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a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cbf1"/>
                </a:solidFill>
                <a:latin typeface="Comic Sans MS"/>
              </a:rPr>
              <a:t>Naveed, Muriam . "URL Science." </a:t>
            </a:r>
            <a:r>
              <a:rPr b="1" i="1" lang="en-US" sz="2000" spc="-1" strike="noStrike">
                <a:solidFill>
                  <a:srgbClr val="2bcbf1"/>
                </a:solidFill>
                <a:latin typeface="Comic Sans MS"/>
              </a:rPr>
              <a:t>www.eng.uwaterloo.ca/~ljlin/frames/hydrogen_station.jpg</a:t>
            </a:r>
            <a:r>
              <a:rPr b="1" lang="en-US" sz="2000" spc="-1" strike="noStrike">
                <a:solidFill>
                  <a:srgbClr val="2bcbf1"/>
                </a:solidFill>
                <a:latin typeface="Comic Sans MS"/>
              </a:rPr>
              <a:t>. N.p., 20 Nov. 2009. Web. 20 Nov. 2009. &lt;www.eng.uwaterloo.ca/~ljlin/frames/hydrogen_station.jpg&gt;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aveed, Muriam . "URL Science." 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www.i.ehow.com/images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. N.p., 20 Nov. 2009. Web. 20 Nov. 2009. &lt;www.i.ehow.com/images&gt;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cbf1"/>
                </a:solidFill>
                <a:latin typeface="Comic Sans MS"/>
              </a:rPr>
              <a:t>Naveed, Muriam. "URL Science." </a:t>
            </a:r>
            <a:r>
              <a:rPr b="1" i="1" lang="en-US" sz="2000" spc="-1" strike="noStrike">
                <a:solidFill>
                  <a:srgbClr val="2bcbf1"/>
                </a:solidFill>
                <a:latin typeface="Comic Sans MS"/>
              </a:rPr>
              <a:t>Yahoo! Answers - Home</a:t>
            </a:r>
            <a:r>
              <a:rPr b="1" lang="en-US" sz="2000" spc="-1" strike="noStrike">
                <a:solidFill>
                  <a:srgbClr val="2bcbf1"/>
                </a:solidFill>
                <a:latin typeface="Comic Sans MS"/>
              </a:rPr>
              <a:t>. N.p., 20 Nov. 2009. Web. 20 Nov. 2009. &lt;http://www.answers.yahoo.com/question/index?qid=20080103013018AAGKvZi&gt;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M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y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 B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b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g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a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cbf1"/>
                </a:solidFill>
                <a:latin typeface="Comic Sans MS"/>
              </a:rPr>
              <a:t>Naveed, Muriam. "URL Science." </a:t>
            </a:r>
            <a:r>
              <a:rPr b="1" i="1" lang="en-US" sz="2400" spc="-1" strike="noStrike">
                <a:solidFill>
                  <a:srgbClr val="2bcbf1"/>
                </a:solidFill>
                <a:latin typeface="Comic Sans MS"/>
              </a:rPr>
              <a:t>eHow | How To Do Just About Everything! | How To Videos &amp; Articles</a:t>
            </a:r>
            <a:r>
              <a:rPr b="1" lang="en-US" sz="2400" spc="-1" strike="noStrike">
                <a:solidFill>
                  <a:srgbClr val="2bcbf1"/>
                </a:solidFill>
                <a:latin typeface="Comic Sans MS"/>
              </a:rPr>
              <a:t>. N.p., 20 Nov. 2009. Web. 20 Nov. 2009. &lt;http://www.ehow.com/about_5435371_interesting-hydrogen.html&gt;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aveed, Muriam. "URl Science."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www.themotorreport.com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. N.p., 20 Nov. 2009. Web. 20 Nov. 2009. &lt;www.themotorreport.com&gt;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F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A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Element Symbol: 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tomic Number: 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Atomic Mass: 1.0079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eriod: 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Ions: 1 positively char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sotopes: 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Group: non-metal/Group 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095880" y="1752480"/>
            <a:ext cx="237816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L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C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.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.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54864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en-US" sz="3400" spc="-1" strike="noStrike">
                <a:solidFill>
                  <a:srgbClr val="2bcbf1"/>
                </a:solidFill>
                <a:latin typeface="Comic Sans MS"/>
              </a:rPr>
              <a:t>Located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on </a:t>
            </a:r>
            <a:r>
              <a:rPr b="1" lang="en-US" sz="3400" spc="-1" strike="noStrike">
                <a:solidFill>
                  <a:srgbClr val="2bcbf1"/>
                </a:solidFill>
                <a:latin typeface="Comic Sans MS"/>
              </a:rPr>
              <a:t>the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top </a:t>
            </a:r>
            <a:r>
              <a:rPr b="1" lang="en-US" sz="3400" spc="-1" strike="noStrike">
                <a:solidFill>
                  <a:srgbClr val="2bcbf1"/>
                </a:solidFill>
                <a:latin typeface="Comic Sans MS"/>
              </a:rPr>
              <a:t>left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of </a:t>
            </a:r>
            <a:r>
              <a:rPr b="1" lang="en-US" sz="3400" spc="-1" strike="noStrike">
                <a:solidFill>
                  <a:srgbClr val="2bcbf1"/>
                </a:solidFill>
                <a:latin typeface="Comic Sans MS"/>
              </a:rPr>
              <a:t>the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periodic </a:t>
            </a:r>
            <a:r>
              <a:rPr b="1" lang="en-US" sz="3400" spc="-1" strike="noStrike">
                <a:solidFill>
                  <a:srgbClr val="2bcbf1"/>
                </a:solidFill>
                <a:latin typeface="Comic Sans MS"/>
              </a:rPr>
              <a:t>table.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It </a:t>
            </a:r>
            <a:r>
              <a:rPr b="1" lang="en-US" sz="3400" spc="-1" strike="noStrike">
                <a:solidFill>
                  <a:srgbClr val="2bcbf1"/>
                </a:solidFill>
                <a:latin typeface="Comic Sans MS"/>
              </a:rPr>
              <a:t>is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the </a:t>
            </a:r>
            <a:r>
              <a:rPr b="1" lang="en-US" sz="3400" spc="-1" strike="noStrike">
                <a:solidFill>
                  <a:srgbClr val="2bcbf1"/>
                </a:solidFill>
                <a:latin typeface="Comic Sans MS"/>
              </a:rPr>
              <a:t>first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element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D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O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V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Y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!</a:t>
            </a:r>
            <a:r>
              <a:rPr b="0" lang="en-US" sz="4400" spc="-1" strike="noStrike">
                <a:solidFill>
                  <a:srgbClr val="e5e5ff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Th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discoverer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of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hydrogen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was,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Henry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Cavendish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He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discovere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hydrogen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a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a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ga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1766,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London,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England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3170520" cy="3657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971960" y="3200400"/>
            <a:ext cx="3646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U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C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U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3352680"/>
            <a:ext cx="40384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2bcbf1"/>
                </a:solidFill>
                <a:latin typeface="Comic Sans MS"/>
              </a:rPr>
              <a:t>Th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structure </a:t>
            </a:r>
            <a:r>
              <a:rPr b="0" lang="en-US" sz="3200" spc="-1" strike="noStrike">
                <a:solidFill>
                  <a:srgbClr val="2bcbf1"/>
                </a:solidFill>
                <a:latin typeface="Comic Sans MS"/>
              </a:rPr>
              <a:t>o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 </a:t>
            </a:r>
            <a:r>
              <a:rPr b="0" lang="en-US" sz="3200" spc="-1" strike="noStrike">
                <a:solidFill>
                  <a:srgbClr val="2bcbf1"/>
                </a:solidFill>
                <a:latin typeface="Comic Sans MS"/>
              </a:rPr>
              <a:t>hydro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tom. </a:t>
            </a:r>
            <a:r>
              <a:rPr b="0" lang="en-US" sz="3200" spc="-1" strike="noStrike">
                <a:solidFill>
                  <a:srgbClr val="2bcbf1"/>
                </a:solidFill>
                <a:latin typeface="Comic Sans MS"/>
              </a:rPr>
              <a:t>Notic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t </a:t>
            </a:r>
            <a:r>
              <a:rPr b="0" lang="en-US" sz="3200" spc="-1" strike="noStrike">
                <a:solidFill>
                  <a:srgbClr val="2bcbf1"/>
                </a:solidFill>
                <a:latin typeface="Comic Sans MS"/>
              </a:rPr>
              <a:t>doesn’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have </a:t>
            </a:r>
            <a:r>
              <a:rPr b="0" lang="en-US" sz="3200" spc="-1" strike="noStrike">
                <a:solidFill>
                  <a:srgbClr val="2bcbf1"/>
                </a:solidFill>
                <a:latin typeface="Comic Sans MS"/>
              </a:rPr>
              <a:t>any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neutr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191120" y="2362320"/>
            <a:ext cx="449568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PHYSICAL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PROPERT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2895480"/>
            <a:ext cx="48765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cbf1"/>
                </a:solidFill>
                <a:latin typeface="Comic Sans MS"/>
              </a:rPr>
              <a:t>Colorl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dorl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cbf1"/>
                </a:solidFill>
                <a:latin typeface="Comic Sans MS"/>
              </a:rPr>
              <a:t>Highly flamm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ight in wei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819520"/>
            <a:ext cx="25146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PICTURE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OF </a:t>
            </a:r>
            <a:r>
              <a:rPr b="1" lang="en-US" sz="4400" spc="-1" strike="noStrike">
                <a:solidFill>
                  <a:srgbClr val="2bcbf1"/>
                </a:solidFill>
                <a:latin typeface="Comic Sans MS"/>
              </a:rPr>
              <a:t>HYDROG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3581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Sinc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hydrogen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is colorless,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a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pictur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of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hydroge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tself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can’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ever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be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hown.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Thi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picture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of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water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i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as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clos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as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an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ge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hydrogen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HeartWaterDrop7E0.jpg water drop love image by christiepositiveenergy"/>
          <p:cNvPicPr/>
          <p:nvPr/>
        </p:nvPicPr>
        <p:blipFill>
          <a:blip r:embed="rId1"/>
          <a:stretch/>
        </p:blipFill>
        <p:spPr>
          <a:xfrm>
            <a:off x="4343400" y="213372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U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743200" y="4876920"/>
            <a:ext cx="4191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Car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can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be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owered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b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hydrogen,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such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as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th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Scorpion </a:t>
            </a:r>
            <a:r>
              <a:rPr b="1" lang="en-US" sz="2800" spc="-1" strike="noStrike">
                <a:solidFill>
                  <a:srgbClr val="2bcbf1"/>
                </a:solidFill>
                <a:latin typeface="Comic Sans MS"/>
              </a:rPr>
              <a:t>Hydrog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3733560" cy="2800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19720" y="2286000"/>
            <a:ext cx="453384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U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2bcbf1"/>
                </a:solidFill>
                <a:latin typeface="Comic Sans MS"/>
              </a:rPr>
              <a:t>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2742840"/>
            <a:ext cx="39621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Hydroge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use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Hydroge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Peroxide, </a:t>
            </a: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which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use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s </a:t>
            </a:r>
            <a:r>
              <a:rPr b="1" lang="en-US" sz="3200" spc="-1" strike="noStrike">
                <a:solidFill>
                  <a:srgbClr val="2bcbf1"/>
                </a:solidFill>
                <a:latin typeface="Comic Sans MS"/>
              </a:rPr>
              <a:t>a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ntisepti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40770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22:29:18Z</dcterms:created>
  <dc:creator>Naveed</dc:creator>
  <dc:description/>
  <dc:language>en-US</dc:language>
  <cp:lastModifiedBy>Naveed</cp:lastModifiedBy>
  <dcterms:modified xsi:type="dcterms:W3CDTF">2009-12-04T04:53:28Z</dcterms:modified>
  <cp:revision>8</cp:revision>
  <dc:subject/>
  <dc:title>HYDROGEN</dc:title>
</cp:coreProperties>
</file>