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3612-FDB2-4913-938A-39595852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40D8-7AC6-48F9-979D-0000C0C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E6F0-3CD8-4489-B465-F0FC7BC2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17E3-0421-4CFB-AD09-DD197F50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9F29-2F77-460A-B94C-E4DD8170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318-91D0-45EB-ACB8-F7D291AA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FA1-9266-4F30-99C5-7EA3B78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2F6B-8F55-4DEC-8F71-7B99CC3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1C5A-91E7-435F-9473-830B473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3EE9-C0BE-4AAE-988D-96E64C6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4EB-6430-4BBA-8EFF-F410DDF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75A2-891B-4FBC-AA2C-FBA5A89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A096-CB9A-4CA1-AFD4-DD1F37E9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DF9C-0C74-48B8-896F-6D08FFB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7772-FE4D-4BDD-A90D-ABE4CF79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FA35-D5A1-47FD-B19F-0896630A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9C2-6BF1-40FB-9BCC-CA6FC9E1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1A1B-C423-4CC6-A587-008173CE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1934-5E73-4998-8F97-BB8AF8A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B88D-17F8-4710-9314-0BCF731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2BF5-F270-44F5-B340-4D6F91B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1979-B193-44FD-B640-974F477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E593-0AAC-450B-A016-55A6FFF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B327-C7E5-4772-B227-5100D56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B7C-9B5D-472D-AEAC-4FD1D3D80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958-8221-4D81-B741-B5F33FCAA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187600">
            <a:off x="457200" y="456840"/>
            <a:ext cx="2189160" cy="227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447000">
            <a:off x="7010280" y="4114800"/>
            <a:ext cx="183528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98144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43000" y="2819520"/>
            <a:ext cx="6324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YDROGE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643600">
            <a:off x="304560" y="46483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27432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ls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sed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n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cific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fu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6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 burns clean! It’s non-polluta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 hydrogen atoms and 1 oxygen atom form wat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t is the most abundant element in the worl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element is 14 times lighter than the air we breath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weights were based on hydrogen at one point of tim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is the oldest element in the univer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ntil 1783, hydrogen was used to fill ballo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 takes up 75 percent of the Earth’s mas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Massy, Quentin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PARACELSUS PIC.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d. Paracelsus, Wikipedia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http://www.en.wikipedia.org/wiki/Paracelsu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 PIC.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www.academic.brooklyn.cuny.edu/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19 Nov. 2009. Web. 19 Nov. 2009. &lt;www.academic.brooklyn.cuny.edu/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ChaCha - Mobile Search | Text Search | Questions and Answer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9 Nov. 2009. Web. 19 Nov. 2009. &lt;http://www.chacha.com/question/how-many-isotopes-does-hydrogen-have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Yahoo! Answers - Home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n.d. Web. 18 Nov. 2009. &lt;http://www.answers.yahoo.com/question/index?qid=20071226121057AAwmDgq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wiki.answers.com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wiki.answers.com/Q/What_is_the_atomic_number_and_atomic_mass_of_hydrogen&gt;.</a:t>
            </a:r>
            <a:r>
              <a:rPr b="1" lang="en-US" sz="14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Naveed, Muriam. "URL Science PIC.."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Google Images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images.google.com/imgres?imgurl=http://themoderngreen.com/wp-content/uploads/2008/10/hydrogen-atom.jpg&amp;imgrefurl=http://themoderngreen.com/2008/10/hydrogen-manufacturing-is-now-20-30-times-cheaper/&amp;usg=__buHxsYiAu4fljvyRpYxK7KRW7fQ=&amp;h=400&amp;w=400&gt;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"Periodic Table of the Elements."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rairie Hills Middle School Student Handbook 2009-20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17 Aug. 2009: 109. Print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Unknown, Unknown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Henry Cavendish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d. Henry Cavendish, Wikipedia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www.wikipedia.org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World Travel Guide with Pictures, Maps and Tours. N.p., 20 Nov. 2009. Web. 20 Nov. 2009. &lt;http://www.bugbog.com/images/maps&gt;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www.eng.uwaterloo.ca/~ljlin/frames/hydrogen_station.jpg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www.eng.uwaterloo.ca/~ljlin/frames/hydrogen_station.jpg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ww.i.ehow.com/image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i.ehow.com/images&gt;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Yahoo! Answers - Home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answers.yahoo.com/question/index?qid=20080103013018AAGKvZi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2bcbf1"/>
                </a:solidFill>
                <a:latin typeface="Comic Sans MS"/>
              </a:rPr>
              <a:t>eHow | How To Do Just About Everything! | How To Videos &amp; Articles</a:t>
            </a: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ehow.com/about_5435371_interesting-hydrogen.html&gt;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ww.themotorreport.c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themotorreport.com&gt;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Element Symbol: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omic Number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Mass: 1.007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riod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ons: 1 positively cha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otopes: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Group: non-metal/Group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54864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ocated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n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op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ef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periodic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able.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he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firs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element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!</a:t>
            </a:r>
            <a:r>
              <a:rPr b="0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iscover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wa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nry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vendish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discover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1766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London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nglan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1705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71960" y="3200400"/>
            <a:ext cx="3646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tructur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om.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No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hav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neutr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495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HYSICA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48765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ighly flamm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ght in w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514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44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i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 colorles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tsel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n’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v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own.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ictur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at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e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HeartWaterDrop7E0.jpg water drop love image by christiepositiveenergy"/>
          <p:cNvPicPr/>
          <p:nvPr/>
        </p:nvPicPr>
        <p:blipFill>
          <a:blip r:embed="rId1"/>
          <a:stretch/>
        </p:blipFill>
        <p:spPr>
          <a:xfrm>
            <a:off x="4343400" y="2133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3200" y="48769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r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wered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,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orpio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53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3962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Peroxide,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tisep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29:18Z</dcterms:created>
  <dc:creator>Naveed</dc:creator>
  <dc:description/>
  <dc:language>en-US</dc:language>
  <cp:lastModifiedBy>Naveed</cp:lastModifiedBy>
  <dcterms:modified xsi:type="dcterms:W3CDTF">2009-12-04T04:53:28Z</dcterms:modified>
  <cp:revision>8</cp:revision>
  <dc:subject/>
  <dc:title>HYDROGEN</dc:title>
</cp:coreProperties>
</file>