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1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2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3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4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47280" y="1130040"/>
            <a:ext cx="58676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47280" y="2641320"/>
            <a:ext cx="5867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5745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34560" indent="-399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4920" indent="-399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456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1492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1492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1492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772040" y="264132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611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988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389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2768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00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96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91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7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83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83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83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6847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7172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5836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45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18181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58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695916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18181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99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0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461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84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3084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728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1520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1520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1520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85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242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1556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0688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7978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1888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1888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1888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27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hyperlink" Target="http://www.chemicalelements.com/groups/transition.html" TargetMode="External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079640" y="4863960"/>
            <a:ext cx="10818720" cy="180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4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34680" y="0"/>
            <a:ext cx="10464840" cy="407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7272"/>
                </a:solidFill>
                <a:latin typeface="Gill Sans"/>
              </a:rPr>
              <a:t>.</a:t>
            </a: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Titanium project by Riley Allen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4229280" y="-1143000"/>
            <a:ext cx="3655800" cy="53434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>
            <a:off x="228600" y="1244520"/>
            <a:ext cx="3517920" cy="34927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9156600" y="6502320"/>
            <a:ext cx="292104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tomic Structure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umber of Energy Level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Grand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Grande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Grand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Grande"/>
              </a:rPr>
              <a:t>First Energy Leve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Grand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Grande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Grand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Grande"/>
              </a:rPr>
              <a:t>Second Energy Leve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8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Grand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Grande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Grand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Grande"/>
              </a:rPr>
              <a:t>Third Energy Leve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10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Grand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Grande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Grande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Grande"/>
              </a:rPr>
              <a:t>Fourth Energy Leve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5"/>
          <a:stretch/>
        </p:blipFill>
        <p:spPr>
          <a:xfrm>
            <a:off x="8839080" y="1219320"/>
            <a:ext cx="3556080" cy="35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4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382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Periodic Table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66400" y="6350040"/>
            <a:ext cx="12471480" cy="340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You can find titanium around the top left of the pictur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UNGDSL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2336760" y="3467160"/>
            <a:ext cx="6353280" cy="307476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8394840" y="2921040"/>
            <a:ext cx="45846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Titanium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Ti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22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47.867 amu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1660.0 °C (1933.15 K, 3020.0 °F)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3287.0 °C (3560.15 K, 5948.6 °F)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umber of Protons/Electron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22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umber of Neutron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26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assific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Transition Met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ystal Structur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Hexagonal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nsity @ 293 K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4.54 g/cm</a:t>
            </a:r>
            <a:r>
              <a:rPr b="0" lang="en-US" sz="1300" spc="-1" strike="noStrike" baseline="32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l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ilverish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3 Ion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2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74680"/>
            <a:ext cx="10464840" cy="454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What titanium is used for?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28240" y="4816080"/>
            <a:ext cx="8458200" cy="4437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es are for paper rubber or paint. Interesting fact- its used to make golf club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9064800" y="4444920"/>
            <a:ext cx="2635200" cy="38991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990720" y="2768760"/>
            <a:ext cx="2260440" cy="22604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698400" y="5727600"/>
            <a:ext cx="7188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scovered by William Gregor.  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e discovered 1791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es are for paper rubber or paint. Interesting fact- its used to make golf club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