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5560" y="-3797280"/>
            <a:ext cx="13004640" cy="130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828800" y="-3911760"/>
            <a:ext cx="13004640" cy="13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07960" y="-3098880"/>
            <a:ext cx="13005000" cy="13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-1625760"/>
            <a:ext cx="13004640" cy="13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927000" y="-4076640"/>
            <a:ext cx="13005000" cy="1300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