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ct" ContentType="image/x-pict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5745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345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492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45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00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91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7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99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461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84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084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728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242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1556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0688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978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oltext.com/" TargetMode="External"/><Relationship Id="rId3" Type="http://schemas.openxmlformats.org/officeDocument/2006/relationships/hyperlink" Target="http://www.juliantrubin.com/bigten/oxygenexperiments.html" TargetMode="External"/><Relationship Id="rId4" Type="http://schemas.openxmlformats.org/officeDocument/2006/relationships/hyperlink" Target="http://www.juliantrubin.com/bigten/oxygenexperiments.html" TargetMode="External"/><Relationship Id="rId5" Type="http://schemas.openxmlformats.org/officeDocument/2006/relationships/hyperlink" Target="http://www.juliantrubin.com/bigten/oxygenexperiments.html" TargetMode="External"/><Relationship Id="rId6" Type="http://schemas.openxmlformats.org/officeDocument/2006/relationships/hyperlink" Target="http://www.juliantrubin.com/bigten/oxygenexperiments.html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079640" y="4863960"/>
            <a:ext cx="10818720" cy="180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30320" y="3124080"/>
            <a:ext cx="127378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00" name=""/>
          <p:cNvSpPr/>
          <p:nvPr/>
        </p:nvSpPr>
        <p:spPr>
          <a:xfrm>
            <a:off x="8331120" y="1270080"/>
            <a:ext cx="2362320" cy="1320840"/>
          </a:xfrm>
          <a:prstGeom prst="roundRect">
            <a:avLst>
              <a:gd name="adj" fmla="val 14417"/>
            </a:avLst>
          </a:prstGeom>
          <a:noFill/>
          <a:ln w="76320">
            <a:solidFill>
              <a:srgbClr val="871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8445600" y="1397160"/>
            <a:ext cx="212076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Short info vide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2" name="oxygen .ppt_media/boo ya .mov" descr=""/>
          <p:cNvPicPr/>
          <p:nvPr/>
        </p:nvPicPr>
        <p:blipFill>
          <a:blip r:embed="rId3"/>
          <a:stretch/>
        </p:blipFill>
        <p:spPr>
          <a:xfrm>
            <a:off x="330120" y="1227240"/>
            <a:ext cx="7683480" cy="5122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9401040" y="4216320"/>
            <a:ext cx="217512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1269720" y="2679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00e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00eff"/>
                </a:solidFill>
                <a:latin typeface="Gill Sans"/>
              </a:rPr>
              <a:t>Element symbo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00e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00eff"/>
                </a:solidFill>
                <a:latin typeface="Gill Sans"/>
              </a:rPr>
              <a:t>Atomic numb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200e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00eff"/>
                </a:solidFill>
                <a:latin typeface="Gill Sans"/>
              </a:rPr>
              <a:t>Atomic mas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7505640" y="311148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5880240" y="4483080"/>
            <a:ext cx="495000" cy="355680"/>
          </a:xfrm>
          <a:prstGeom prst="ellipse">
            <a:avLst/>
          </a:prstGeom>
          <a:noFill/>
          <a:ln w="63360">
            <a:solidFill>
              <a:srgbClr val="b21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5943600" y="5372280"/>
            <a:ext cx="431640" cy="330120"/>
          </a:xfrm>
          <a:prstGeom prst="ellipse">
            <a:avLst/>
          </a:prstGeom>
          <a:noFill/>
          <a:ln w="50760">
            <a:solidFill>
              <a:srgbClr val="32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87920" y="6388200"/>
            <a:ext cx="470160" cy="317520"/>
          </a:xfrm>
          <a:prstGeom prst="ellipse">
            <a:avLst/>
          </a:prstGeom>
          <a:noFill/>
          <a:ln w="63360">
            <a:solidFill>
              <a:srgbClr val="b51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8026560" y="3708360"/>
            <a:ext cx="2705040" cy="2260800"/>
          </a:xfrm>
          <a:prstGeom prst="ellipse">
            <a:avLst/>
          </a:prstGeom>
          <a:noFill/>
          <a:ln w="63360">
            <a:solidFill>
              <a:srgbClr val="b016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9042480" y="2984400"/>
            <a:ext cx="711000" cy="622440"/>
          </a:xfrm>
          <a:prstGeom prst="ellipse">
            <a:avLst/>
          </a:prstGeom>
          <a:noFill/>
          <a:ln w="63360">
            <a:solidFill>
              <a:srgbClr val="1ca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8445600" y="6388200"/>
            <a:ext cx="1778040" cy="520560"/>
          </a:xfrm>
          <a:prstGeom prst="ellipse">
            <a:avLst/>
          </a:prstGeom>
          <a:noFill/>
          <a:ln w="76320">
            <a:solidFill>
              <a:srgbClr val="ae2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1428840" y="127008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817800" y="1295280"/>
            <a:ext cx="7086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his man to the left is known as Antonie Lavoisier and he is the man who discovered oxygen in the year 1775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6ab21"/>
                </a:solidFill>
                <a:latin typeface="Gill Sans"/>
              </a:rPr>
              <a:t>Period 2 ,Group 16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3011400" y="2679840"/>
            <a:ext cx="8694720" cy="5957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0185480" y="3594240"/>
            <a:ext cx="495360" cy="571320"/>
          </a:xfrm>
          <a:custGeom>
            <a:avLst/>
            <a:gdLst>
              <a:gd name="textAreaLeft" fmla="*/ 55800 w 495360"/>
              <a:gd name="textAreaRight" fmla="*/ 439560 w 495360"/>
              <a:gd name="textAreaTop" fmla="*/ 55800 h 571320"/>
              <a:gd name="textAreaBottom" fmla="*/ 515520 h 571320"/>
            </a:gdLst>
            <a:ahLst/>
            <a:rect l="textAreaLeft" t="textAreaTop" r="textAreaRight" b="textAreaBottom"/>
            <a:pathLst>
              <a:path w="21600" h="24910">
                <a:moveTo>
                  <a:pt x="8306" y="0"/>
                </a:moveTo>
                <a:arcTo wR="8306" hR="8306" stAng="16200000" swAng="-5400000"/>
                <a:lnTo>
                  <a:pt x="0" y="16604"/>
                </a:lnTo>
                <a:arcTo wR="8306" hR="8306" stAng="10800000" swAng="-5400000"/>
                <a:lnTo>
                  <a:pt x="13294" y="24910"/>
                </a:lnTo>
                <a:arcTo wR="8306" hR="8306" stAng="5400000" swAng="-5400000"/>
                <a:lnTo>
                  <a:pt x="21600" y="8306"/>
                </a:lnTo>
                <a:arcTo wR="8306" hR="8306" stAng="0" swAng="-5400000"/>
                <a:close/>
              </a:path>
            </a:pathLst>
          </a:custGeom>
          <a:noFill/>
          <a:ln w="63360">
            <a:solidFill>
              <a:srgbClr val="f6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1d00"/>
                </a:solidFill>
                <a:latin typeface="Gill Sans"/>
              </a:rPr>
              <a:t>Ions &amp; Isotopes of Oxygen</a:t>
            </a:r>
            <a:endParaRPr b="0" lang="en-US" sz="6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f007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Ionic charge of the of Oxygen is -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f007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re are three isotopes in 1  oxygen a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79640" y="2184480"/>
            <a:ext cx="10451880" cy="19890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04112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Interesting Fact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1288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xygen makes up 80% of the air we inhal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1288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ne of the most commonly known elements on the periodic tabl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1288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e inhale oxygen and exhale carbon dioxide and plants do the exact opposite so they play a huge part in oxygen for huma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69800" y="3327480"/>
            <a:ext cx="1206180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Cool Text: Logo and Graphics Generator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l Text: Logo and Graphics Gen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p., n.d. Web. 2 Dec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cooltex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Periodic Table of the Elements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airie Hills Middle School Student Handbook 2009-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ug. 2009: 109. Pri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The Discovery of Oxyge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Orchid Grower: A Juvenile Science Adventure No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p., n.d. Web. 2 Dec. 2009. &lt;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juliantr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ubin.com/bigten/oxygenexperiments.html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unknown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Oxyge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images, hutchinson. . Web. 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unknown, unknown. . Web. 2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when discovered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p., n.d. Web. 3 Dec. 2009. &lt;antoine.frostburg.edu/chem/senese/101/history/faq/discovery-of-oxygen.shtml&gt;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LA formatting by BibMe.or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Bibliography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